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C255-7B27-4FE0-9B14-C2F2A1BBC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B64E-587B-4DDD-857B-5D38E57E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1B485E-084E-4381-B923-1CC83B72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BC571D-5805-4ECC-8C9A-7F897AF2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A7B82-4999-424E-AD50-3AEFD656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372C9-D632-4AA4-A371-181C7E6F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AC0B6-B5DB-4E45-8CBD-D8D945A6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C0F2F6-51AE-43F0-99AC-4B55FAA2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6B6990-D8FA-4F33-BC55-D5CB1CC0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29B225-6FDF-48D8-A16C-65ABAE4C5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E45EC2-94A8-4556-89B9-C00498600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ED9B55-3FE0-46BE-848F-205715FFA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6594-0AD8-47E3-9562-528D0096C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DB5912-2678-4B3C-BA4E-411A378D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C77881-70D5-4368-BF18-DAFD5CFA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E8657-07BA-4EE6-807E-8D3216BE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2D76C9-078E-4E30-89AF-43A8CFE6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0FFEE-F5CA-482D-B4FF-3CF97C65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60A1D0-DA5D-4AF3-81B5-BE7EA799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258E4-8086-44B1-A607-F2A8577A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A59D09-DDAF-4244-A00D-0978C6D3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5EB1EE-60BF-4C6F-AB57-7A7A299D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08569-A6E4-460C-BDF0-43550F6EE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BACB-959E-4F9A-9AC1-27554C7F5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9B92F-2282-47C0-B17A-045D099CD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C02B0-61AA-4DEB-B8FA-E8B6B9D5F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B3953C-0DB7-4F1B-AA4F-A0FAAC22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4F807-C6F6-444B-8055-DE229E8A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776AF-EED7-49D2-9427-B341F6C7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47AA61-6D96-4B82-BCB0-D5053B93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D5F86-C19B-42C1-AB9C-437B957B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DBDD3C-E37D-4B82-8089-26B6E9FE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94772-CB36-4E20-B744-135A603E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DD1F4-6320-4A7C-824F-28967028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E690-938F-488D-94E8-A071A6560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BAFB2-CD11-4175-82B5-B06E20C1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F91EA-850B-4999-A111-0F6351F01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921AF-D031-4681-B170-8F8F0084C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CBE67F-89D0-4840-8E00-191895EC4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D12F30-0FB7-46EE-A828-7712F401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EDE44-B3CD-43F6-A76F-1BDAF466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5D7A07-01BB-4244-99CA-2044D5C9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F887A9-8D1A-44F9-B147-F87C800F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D9C7C0-1510-42B9-99AC-D60D38C9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F75638-D16A-4B7D-8483-B0D2384B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29A2-B037-4786-807D-DB836B0D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69062D-03F4-469A-A96C-DA1B9F66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447781-B72E-48D2-A9A8-C4C686E8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5263CB-5A8C-438C-A923-4843A6CD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FBA810-1230-4272-A33F-2ACCB79B9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0391FB-DB73-47B4-AEB1-DB20D31C3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803817-9DE6-486E-81AA-1A6669CF5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658893-039A-4C0C-8E48-F433E064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22E89C-11D6-40E8-80D7-C2286681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1721BC-3165-4172-BD74-6A6EEFF5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0CAE8F-775A-479D-B91B-F5896A4C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71F9-E606-463B-AA59-7C3C1928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52E56E-EFB7-45D8-86E0-659DBA2F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C9A9A7-2B05-4C19-BD42-E00B79A2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C2FB82-E521-4E24-A5BF-BE30EC10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3AEF84-6A8D-4089-8695-144E73E8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0F3DB9-B651-4C54-BBB1-64B89BC9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944BC5-7812-4054-9527-4745192D4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B38879-7A6E-412F-B9BB-6C42781D2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B119F9-FFB9-4F74-A5BE-DC7911B88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E8EFF4-043A-46F1-B074-6FBE518B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1BBAB7-D3B2-4F89-BB72-CE676EC5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B1D3-1E63-4793-A444-BAEAAFB4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F9C2B5-9BBF-4E76-9E8C-5A0B77EC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5EE24B-6C23-4B6F-8716-FEBD2840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564727-195E-4888-96E0-50FC5747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2A5345-995C-4CFE-93F5-36E3F533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9FD6D0-5BBE-4536-8367-5ABE196E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5B0E95-A0E8-443A-9061-ACDA03B9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2EBC88-0908-43CF-9C4E-FCD6D04C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D0E54B-B112-4418-A449-ECCF14597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B7E9D8-820C-4A30-81BB-4AF2FA38D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DD476F-FEE0-4299-AB2C-147D1AE92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FCBB-B6EF-4520-A079-EA525AF2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4E598E-D701-4560-8899-EC7878B4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70BE0B-A96F-499F-845E-4B708312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23761A-9E24-4D30-9A55-2AB87E24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5CDB28-D456-4FB2-ACE5-AB9F25E0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70353A-CCB5-401E-9675-2A9DB3A6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0A20ED-E13D-4892-99FB-8FEBCCBE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9E79AC-17C3-426D-8673-77132D24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E5079F-51FC-45F1-B2B1-C748685F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98A2B6-0FBD-4B73-A44B-E87A25BD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405805-BA74-4571-9099-91D38C085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1655-0B3B-4E6E-892A-7EE14DFC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1D259E-5FFE-469E-82EB-ACAB8DC89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D0599F-765D-4D83-94E6-90CAC5447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64722F-6B3B-48E9-BABB-C55EAF90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8E151B-A082-4B6B-8411-9184E3CF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4B291B-C5A0-4253-9E42-E82ABACD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26F883-AA64-408E-8917-47F21EFF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2CEBA5-EA9B-416F-A2B6-C5CB8C3A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35A337-0817-4610-A845-15E51467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01225E-5391-4541-BD23-6F98961C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403C32-87E9-4704-A1DE-C0EAAA50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F7F9-E096-41AD-AD6A-6777B7F3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FA2C02-F4AA-449D-AB5F-E7177646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DAEB3E-F30D-4A9D-97BA-846703096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0A5B3B-E876-46EA-950B-8A0054FC1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9C0AE4-587B-4D26-9C25-3EEF05D79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310272-E3F8-49AB-8FB8-E0838554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BA179A-34F4-460F-A942-E6CA2A22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0C56FC-877C-46E4-B31D-B18B9CCF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9AFDD4-72CA-48F8-A58C-8DD9B138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899EC8-C814-4804-A6B5-15C986C3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903CF1-5008-4DD9-A2C9-6F13649E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9F92-5A2C-4CBD-B495-6B5169B4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B2EA-7DC9-4780-BC13-9E34FBCA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76D581-76E5-434B-891C-99C6E8D9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E6BE1F-A5B2-4C17-A985-B416A305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50EA13-5CC0-420A-ADB9-DE69F19B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C24DBD-C34A-4766-AD46-41776A244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86E784-3E82-478B-9B3B-CE3C37396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588B94-E3C8-4B10-8D10-52B0C9759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534A19-81A7-4D58-B20A-84EFE230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E53BB7-FD6A-4276-91A3-6201781F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CD0DB3-8C1C-4AE8-BC01-07194AFC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AB38A8-B1BF-4FAF-8903-727138BF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9ED6-11DB-42F1-A475-38D2716E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3F78BB-9D68-4D32-8CCF-A1E5E5CC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C484A0-24C9-4223-BDB7-4057EFEF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46FE9A-8ECC-4325-9C85-5DA0DF57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6B77CA-38A1-48F0-A7D7-57F8FD76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6DCCE8-5A85-43A8-8765-471F4C0C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4B5E60-F848-4242-9E27-4A3A2E9C0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B68CF7-6787-4A67-B966-D41C3321F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BEF00D-341A-48C5-BE66-55C941F2C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5C87DE-5E4C-4792-993E-69FED0FB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65EAAE-E999-4F36-B4DD-1DB9AB51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B382-43B8-428D-B056-D7EE1438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AA49E1-06DA-402E-8048-BB279548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0861F9-060D-4355-BF6F-595AB10E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D2D168-826B-458C-8376-25FD2752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8F4F65-BDEE-40CC-9B9F-F1D92893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EA1429-56F1-4F55-8873-A93E231C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9EF15A-3D30-478F-A5A3-CE17E833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B8F46A-EB90-45CC-A63B-96E0E6D1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863BCB-3962-4189-AB49-1FFE4C25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434BCF-8A75-4471-B902-004F81AC7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E572F4-EC88-4A55-BA84-39877EEFB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07DA-0F27-4B15-8EA8-FAACBE449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56E3FE-23C1-4A70-B26E-AE77F1CA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7070E9-6CC3-48A7-A19D-1113EA48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3B60F3-0205-45FE-A773-A2E316BD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F05D52-F69B-4E78-8CC8-7A97BE3A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029E05-EE3B-4003-AB98-369D0479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77B1FE-7472-48ED-9265-2E7C5EAB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2E60B2-AF55-4A2E-820B-5AD305A2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AF8EC7-6B0C-41EE-A4B4-9C1EF835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2CF40A-47A4-4E90-A970-F894651C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47B8FF-A47B-4194-84CF-524EC54DD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05D1-3A93-4C78-9189-966AE20EC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71BCC9-0B43-4492-900D-556697B2B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FFEB7F-D3FC-4378-B1AD-CEFA3A940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8CCFEC-4B9E-4E0E-85C5-A40D3F56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E668B3-53A6-42FB-B213-B1DBF373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2F52AC-890D-46EB-B132-9C103E3F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6478F3-8027-4937-B257-8FF48420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FE3B0D-58A0-40DB-B800-9841AA23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C68805-CD0E-4348-9621-5FDE29B3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7150B0-3212-4E11-ADB8-E3EC5687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93A759-206A-47E2-94A3-24797E8C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A688A-9AA5-4FA5-8E04-B1C858F94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C8ABCC-4E8C-44C8-85AD-84A93FF3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3FB931-9F77-4865-AFC5-0061C780F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2FD338-6B8B-4CA9-A765-605CA2162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48A7F-CE06-489E-BEDA-320A591F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D9AF1-E7B5-435E-A91B-30DE5F63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60A4D-6C0D-41CD-85E2-09AE914C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774EA-C4B3-4ADC-95FF-59F12543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0705-CAE6-4E9B-B13B-BE7D71AB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90656-7E0E-4E49-A174-97D9D399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F82B6-11A8-4341-942B-87507A6F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B8F34-4E6A-4877-9F2A-3635D8FA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4D4DA-266B-4606-A2E1-8FFB34D0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6A58F-8A49-4641-9963-E49E1427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9B6CD-94FF-451F-B6F0-4C53A521C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9FD18-1116-4E78-B1D6-46E466DBE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16533-64C9-4FDB-85C6-4EBBD10D8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694CB-BC9E-4716-A270-60D34DC2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AB3A7-1C11-4DF1-A782-C57F8FCA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47EC-B85B-4DB9-B808-145432D4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42A82-4019-4529-9FF5-C7651C38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B68A6-FFAC-457B-A5B1-8C8E16EF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4FBA5-C2DE-4990-ADEC-7B08C4CC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CDB7A-95C1-408E-BDE9-0304E164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7810D-E474-41AF-9CF9-BF9E6363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C753D-86EC-4020-86E0-9AD96FB1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A0A86-7762-4055-8042-23C0A96F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1334B-DDD6-4F15-894E-5E3465861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76483-A4E4-4BDD-A29F-A4C1C21ED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1F7D5-C929-44BF-8558-FD5B0CD9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AEDA-2C3D-43FC-830C-E818193F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7AC3E-194E-4082-8B50-E141617D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D9C31-ED93-4CA0-AEDA-2766A2F6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75B82-05DE-4D4C-996D-C34FF357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1E49B-FC8F-4223-AD6B-57F9AD13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F9F7A-5B4C-4140-9CBD-01E8BF9A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9A5C9-D82A-4EC5-8FF2-07D4153B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10E9D-A6FD-4EC0-87A2-68B34618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F3B1D-2E29-464A-9AB3-7DA6B2F3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DD857-FAFE-4F58-9692-6F209A58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B533A-4372-4353-95F3-1EAFB79E1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AB71-C34C-48D9-91DF-4375DEB0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5C9AE-E0F6-4FF0-8F45-8E410C16C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B6BDC-6163-4BDD-8078-5F4820911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BE8D8-5D09-4D1C-89A1-2D70A3F7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D1AAA-031F-4822-8DED-12338431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C86DB-CCD6-4AC4-93B6-4B4BBB0E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AA30F-34AC-4908-91B6-694BB437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E883E-D335-4D9F-9E2E-63B2C0B7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89DB6-5BFD-4FD8-9C51-F369E0CD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22235-D89C-4B0B-9E65-7FF6473D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C159F-E26E-4B43-B861-F01FB06D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511B-134B-4CB1-A081-2C5ADB94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371BA-963A-4F19-8725-AE5CE993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E68F6-8D98-40CB-B5EC-793B0B0FF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89BF1-39F1-40C2-AFF6-12BC8CF4A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CC728-F5EF-405D-BC9F-155785399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5FB47-3D88-4CCE-9A2C-8BB487AB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C726D-3FCF-4DBA-BD7F-E65DA945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D3590-11B8-4ADE-90BB-8B90923E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4CCC2-F993-4716-AEB9-40903A8D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B0899-A8AF-4539-AC19-989BF5C2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3519F-FCD7-4EDE-ADE7-1D0452C6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C5CD-861D-4EF9-AD8F-A543CC37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61BAC-3A27-4807-9CC3-7E6CAAA0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3101B-713A-4BA6-AFEE-F9C1AF83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14F54-4EA8-400D-9931-EA63DA2C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A6679-6D34-4251-9E38-C9DED4ABB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15554-1382-4004-874A-6B772D52D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7C2DB-776F-4F58-B1E9-8EA2BDFF9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68F9C-ECF9-469D-A3D7-EBFF3611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BD2E8-B808-40F1-8C0C-537DBA01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7E009-ED60-4474-9A48-C67A6782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78B4A-A278-4E68-AC92-926227C6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47F5-7DD6-438A-AFFB-923D75A8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0CB3C-E722-40D5-AE59-2952F269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FB884-1FD1-428E-8604-774E1C21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921AB-A83F-4E34-B88D-DEC7632C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B9A60-B337-4D27-BFBB-60D71413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A1B2E-C75F-4A83-9D86-EC8D91AE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B2E9B-8253-4CA4-AB8F-14C9BC8DF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1C8BF-509F-4800-B2B1-3671CC773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7B766E-CD5F-4E50-9FFF-9BA0247E2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50D41-AF77-4A6F-9700-AB713BE6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1E29C9-2D00-4DAD-B6B1-67E96D00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C790-6A29-46C9-B685-881BE0335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7381-ADA4-41CB-8494-67E32EE36D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0717-608B-4126-B40B-C690C3027D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4E5A-CFB9-43AC-9459-4773D88D69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DAF1-2A3C-43B4-A56D-1012906C87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C671-D53A-48CF-AC29-C292F56385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82D3-0241-4CAD-90BD-EFE982DAAF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E9BF-07EB-459C-A714-4DE73683C5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165F-0E13-420B-8660-7CA433882A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7254-3B50-4C6A-8087-5A0851ADBE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72C0-A88A-4165-9C36-5268D89EB0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B9C7-E50B-4B50-853E-B3ECECCB83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15FA-88ED-44B1-A862-1C30FCBAF4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0ABD-2F89-48CF-9C18-6C3BC58560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87E4-C765-4A6F-AB6F-BB1D3539C6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4F48-F957-42A5-AD85-0F83D0212E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7B88-9A92-4485-AB0E-76D7A6FB92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0D46-2A9E-4CC3-98B8-0BB36DB08A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7FB0-E447-4FCE-9110-5B036984C1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0724-F18D-4A4C-ABAE-DECCCB0A86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CEBA-554A-410F-A11B-A29FE8350A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5503-E5C4-46F1-80D0-5AF3D8A21C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B9C2-2CA0-47E0-9898-183FC66A0E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305D-DFD8-43D4-B25F-3EFFB77BE8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D866-DE88-4603-96D9-7BC7996026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ACE5-D3C9-45F6-B4F5-9E9DE874CD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5F38-4227-4FF4-BF7F-3A9DD1D368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9FA0-35D3-49B1-8418-888CD8E16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42F4-C02C-482E-8171-8FB7CFE004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71FC-EF49-4411-A613-49ADC7A567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B28A-2445-4E14-8A5C-208B309896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B63E-3897-4B8B-8DB4-06149AE65C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6EB9-CD00-49B1-9646-3B9E9D29C0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FFB7-CE56-4FDF-A4BF-ABBFE723D3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29F7-58E1-4803-B17A-7109015120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B2D8-9BB1-49A3-AB3F-D89BC7C965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1942-3E23-4CD8-8315-36573202BE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A7AC-36B7-47A7-91A4-84850DAA50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4C87-2F42-4D40-99BF-78EC32F589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C63F-8769-4FD9-AA7A-E12EAC9426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766960" y="2133720"/>
            <a:ext cx="3610080" cy="91440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2" descr=""/>
          <p:cNvPicPr/>
          <p:nvPr/>
        </p:nvPicPr>
        <p:blipFill>
          <a:blip r:embed="rId2"/>
          <a:stretch/>
        </p:blipFill>
        <p:spPr>
          <a:xfrm>
            <a:off x="1185840" y="3357720"/>
            <a:ext cx="677232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7" name="图片 1" descr=""/>
          <p:cNvPicPr/>
          <p:nvPr/>
        </p:nvPicPr>
        <p:blipFill>
          <a:blip r:embed="rId1"/>
          <a:stretch/>
        </p:blipFill>
        <p:spPr>
          <a:xfrm>
            <a:off x="1285920" y="1547640"/>
            <a:ext cx="6572160" cy="37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0" name="图片 1" descr=""/>
          <p:cNvPicPr/>
          <p:nvPr/>
        </p:nvPicPr>
        <p:blipFill>
          <a:blip r:embed="rId1"/>
          <a:stretch/>
        </p:blipFill>
        <p:spPr>
          <a:xfrm>
            <a:off x="257040" y="938160"/>
            <a:ext cx="8629920" cy="498168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2"/>
          <a:stretch/>
        </p:blipFill>
        <p:spPr>
          <a:xfrm>
            <a:off x="1692360" y="2421000"/>
            <a:ext cx="2808360" cy="44928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3"/>
          <a:stretch/>
        </p:blipFill>
        <p:spPr>
          <a:xfrm>
            <a:off x="6012000" y="2421000"/>
            <a:ext cx="1152360" cy="44928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4"/>
          <a:stretch/>
        </p:blipFill>
        <p:spPr>
          <a:xfrm>
            <a:off x="1547640" y="3759120"/>
            <a:ext cx="2592720" cy="44928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5"/>
          <a:stretch/>
        </p:blipFill>
        <p:spPr>
          <a:xfrm>
            <a:off x="1116000" y="5056200"/>
            <a:ext cx="1727280" cy="44928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" descr=""/>
          <p:cNvPicPr/>
          <p:nvPr/>
        </p:nvPicPr>
        <p:blipFill>
          <a:blip r:embed="rId6"/>
          <a:stretch/>
        </p:blipFill>
        <p:spPr>
          <a:xfrm>
            <a:off x="4140360" y="5041800"/>
            <a:ext cx="1081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8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1" descr=""/>
          <p:cNvPicPr/>
          <p:nvPr/>
        </p:nvPicPr>
        <p:blipFill>
          <a:blip r:embed="rId2"/>
          <a:stretch/>
        </p:blipFill>
        <p:spPr>
          <a:xfrm>
            <a:off x="162000" y="1461960"/>
            <a:ext cx="8820000" cy="39340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1187280" y="2276640"/>
            <a:ext cx="576360" cy="4489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1258920" y="292428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5"/>
          <a:stretch/>
        </p:blipFill>
        <p:spPr>
          <a:xfrm>
            <a:off x="1187280" y="350028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6"/>
          <a:stretch/>
        </p:blipFill>
        <p:spPr>
          <a:xfrm>
            <a:off x="1258920" y="414972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7"/>
          <a:stretch/>
        </p:blipFill>
        <p:spPr>
          <a:xfrm>
            <a:off x="1258920" y="479736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7" name="图片 1" descr=""/>
          <p:cNvPicPr/>
          <p:nvPr/>
        </p:nvPicPr>
        <p:blipFill>
          <a:blip r:embed="rId1"/>
          <a:stretch/>
        </p:blipFill>
        <p:spPr>
          <a:xfrm>
            <a:off x="709560" y="1257480"/>
            <a:ext cx="7723080" cy="43434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2"/>
          <a:stretch/>
        </p:blipFill>
        <p:spPr>
          <a:xfrm>
            <a:off x="1835280" y="198900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3"/>
          <a:stretch/>
        </p:blipFill>
        <p:spPr>
          <a:xfrm>
            <a:off x="1763640" y="393372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2" name="图片 1" descr=""/>
          <p:cNvPicPr/>
          <p:nvPr/>
        </p:nvPicPr>
        <p:blipFill>
          <a:blip r:embed="rId1"/>
          <a:stretch/>
        </p:blipFill>
        <p:spPr>
          <a:xfrm>
            <a:off x="369720" y="1158840"/>
            <a:ext cx="8209080" cy="3733920"/>
          </a:xfrm>
          <a:prstGeom prst="rect">
            <a:avLst/>
          </a:prstGeom>
          <a:ln w="0">
            <a:noFill/>
          </a:ln>
        </p:spPr>
      </p:pic>
      <p:pic>
        <p:nvPicPr>
          <p:cNvPr id="1043" name="图片 2" descr=""/>
          <p:cNvPicPr/>
          <p:nvPr/>
        </p:nvPicPr>
        <p:blipFill>
          <a:blip r:embed="rId2"/>
          <a:stretch/>
        </p:blipFill>
        <p:spPr>
          <a:xfrm>
            <a:off x="530280" y="4892760"/>
            <a:ext cx="7351560" cy="18381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755640" y="1197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4"/>
          <a:stretch/>
        </p:blipFill>
        <p:spPr>
          <a:xfrm>
            <a:off x="826920" y="3068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5"/>
          <a:stretch/>
        </p:blipFill>
        <p:spPr>
          <a:xfrm>
            <a:off x="900000" y="494172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9" name="图片 1" descr=""/>
          <p:cNvPicPr/>
          <p:nvPr/>
        </p:nvPicPr>
        <p:blipFill>
          <a:blip r:embed="rId1"/>
          <a:stretch/>
        </p:blipFill>
        <p:spPr>
          <a:xfrm>
            <a:off x="209520" y="882720"/>
            <a:ext cx="8724960" cy="57531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2"/>
          <a:stretch/>
        </p:blipFill>
        <p:spPr>
          <a:xfrm>
            <a:off x="1258920" y="1628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3"/>
          <a:stretch/>
        </p:blipFill>
        <p:spPr>
          <a:xfrm>
            <a:off x="1258920" y="422100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4" name="图片 1" descr=""/>
          <p:cNvPicPr/>
          <p:nvPr/>
        </p:nvPicPr>
        <p:blipFill>
          <a:blip r:embed="rId1"/>
          <a:stretch/>
        </p:blipFill>
        <p:spPr>
          <a:xfrm>
            <a:off x="538200" y="954000"/>
            <a:ext cx="8066160" cy="560880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2"/>
          <a:stretch/>
        </p:blipFill>
        <p:spPr>
          <a:xfrm>
            <a:off x="826920" y="981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3"/>
          <a:stretch/>
        </p:blipFill>
        <p:spPr>
          <a:xfrm>
            <a:off x="826920" y="414972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9" name="图片 1" descr=""/>
          <p:cNvPicPr/>
          <p:nvPr/>
        </p:nvPicPr>
        <p:blipFill>
          <a:blip r:embed="rId1"/>
          <a:stretch/>
        </p:blipFill>
        <p:spPr>
          <a:xfrm>
            <a:off x="20520" y="907920"/>
            <a:ext cx="9102960" cy="58006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2"/>
          <a:stretch/>
        </p:blipFill>
        <p:spPr>
          <a:xfrm>
            <a:off x="1042920" y="17733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3"/>
          <a:stretch/>
        </p:blipFill>
        <p:spPr>
          <a:xfrm>
            <a:off x="1042920" y="436572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4" name="图片 2" descr=""/>
          <p:cNvPicPr/>
          <p:nvPr/>
        </p:nvPicPr>
        <p:blipFill>
          <a:blip r:embed="rId1"/>
          <a:stretch/>
        </p:blipFill>
        <p:spPr>
          <a:xfrm>
            <a:off x="657360" y="866880"/>
            <a:ext cx="7829280" cy="512424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2"/>
          <a:stretch/>
        </p:blipFill>
        <p:spPr>
          <a:xfrm>
            <a:off x="971640" y="83664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3"/>
          <a:stretch/>
        </p:blipFill>
        <p:spPr>
          <a:xfrm>
            <a:off x="971640" y="3500280"/>
            <a:ext cx="576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9" name="图片 1" descr=""/>
          <p:cNvPicPr/>
          <p:nvPr/>
        </p:nvPicPr>
        <p:blipFill>
          <a:blip r:embed="rId1"/>
          <a:stretch/>
        </p:blipFill>
        <p:spPr>
          <a:xfrm>
            <a:off x="1071720" y="1414440"/>
            <a:ext cx="7000560" cy="402912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2"/>
          <a:stretch/>
        </p:blipFill>
        <p:spPr>
          <a:xfrm>
            <a:off x="2195640" y="225900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3"/>
          <a:stretch/>
        </p:blipFill>
        <p:spPr>
          <a:xfrm>
            <a:off x="2124000" y="292428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4"/>
          <a:stretch/>
        </p:blipFill>
        <p:spPr>
          <a:xfrm>
            <a:off x="2124000" y="3645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5"/>
          <a:stretch/>
        </p:blipFill>
        <p:spPr>
          <a:xfrm>
            <a:off x="2124000" y="4221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6"/>
          <a:stretch/>
        </p:blipFill>
        <p:spPr>
          <a:xfrm>
            <a:off x="2124000" y="486900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45:56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